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ADD-52D0-433A-923F-33231CF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902-C23C-4791-BEA3-6C53989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CB4-3D55-4996-A773-3E183322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34A-1390-4A11-9962-C2322F1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FD1-4C6C-4F9D-B1CD-ED49602D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5C2-23D8-48E7-A8A3-37CC9C3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B46-9125-476F-BBDC-8F340BE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962-0B27-4C4F-8EB5-D658C30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917-54AE-4C3D-A105-8B444C9B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E66-4768-4A3F-9D0A-11ACE1B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B3E-95D5-4938-A6A4-A19E184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DD1-B561-4960-903B-7EF959B1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D578-50FF-4E1C-8519-8993E15C6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676520" y="228600"/>
            <a:ext cx="586728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Challenges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to the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“Concert” System:</a:t>
            </a:r>
            <a:br>
              <a:rPr sz="5600"/>
            </a:br>
            <a:r>
              <a:rPr b="1" lang="en-US" sz="5600" spc="-1" strike="noStrike">
                <a:solidFill>
                  <a:srgbClr val="ff0000"/>
                </a:solidFill>
                <a:latin typeface="BlackChancery"/>
              </a:rPr>
              <a:t>The 1820s-1830 Revolutions</a:t>
            </a:r>
            <a:endParaRPr b="1" lang="en-US" sz="5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752480" y="5410080"/>
            <a:ext cx="5715000" cy="1169280"/>
          </a:xfrm>
          <a:prstGeom prst="rect">
            <a:avLst/>
          </a:prstGeom>
          <a:noFill/>
          <a:ln w="9360">
            <a:solidFill>
              <a:srgbClr val="5dae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aeff"/>
                </a:solidFill>
                <a:latin typeface="Spirit Medium"/>
              </a:rPr>
              <a:t>Mr. Robert Kuenz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aeff"/>
                </a:solidFill>
                <a:latin typeface="Spirit Medium"/>
              </a:rPr>
              <a:t>Nathan Hale H.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7632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Results of the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1820s-1830 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Revolutions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914400"/>
            <a:ext cx="8305560" cy="5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Concert of Europe provided for a recovery of Europe after the long years of Revolution and Napoleonic War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conservatives did NOT reverse ALL of the reforms put in place by the French Revolution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iberalism would challenge the conservative plan for European peace and law and order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se revolutions were successful only in W. Europe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95560" indent="-34308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ir success was in their popular support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95560" indent="-34308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Middle class lead, aided by the urban lower classe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successful revolutions had benefited the middl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lass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the workers, who had done so much of the rioting and fighting, were left with empty hands!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refore, these revolutions left much unfinished &amp; a seething, unsatisfied working clas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Revolutionary Movements in the Early 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3" descr="map-Revolutionary Movements of the 1820s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544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Oval 4"/>
          <p:cNvSpPr/>
          <p:nvPr/>
        </p:nvSpPr>
        <p:spPr>
          <a:xfrm>
            <a:off x="2057400" y="4952880"/>
            <a:ext cx="7621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971800" y="5105520"/>
            <a:ext cx="167652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6"/>
          <p:cNvSpPr/>
          <p:nvPr/>
        </p:nvSpPr>
        <p:spPr>
          <a:xfrm>
            <a:off x="5486400" y="5410080"/>
            <a:ext cx="990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172200" y="1676520"/>
            <a:ext cx="12952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3348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Uprising -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6" descr="Kolman_decembris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363680"/>
            <a:ext cx="7315200" cy="496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Revolt,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066680"/>
            <a:ext cx="830556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Russian upper class had come into contact with western liberal ideas during the Napoleonic Wars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ate November, 1825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Czar Alexander I died suddenly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e had no direct heir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dynastic crisis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onstantine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married a woman, not of royal bloo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Nichola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named by Alexander I as his heir before his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                 death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88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Russian troops were to take an oath of allegiance to Nicholas, who was less popular than Constantine [Nicholas was seen as more reactionary]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ecember 26, 1825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 Moscow regiment marched into the Senate Square in St. Petersburg and refused to take the oath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Revolt,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3520" y="990720"/>
            <a:ext cx="83055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wanted Constantin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holas ordered the cavalry and artillery to attack the insurgent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Over 60 were killed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5 plotters were executed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Over 100 insurgents were exiled to Siberia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esul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first rebellion in modern Russian history where the rebels had specific political goal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n their martyrdom, the Decembrists came to symbolize the dreams/ideals of all Russian liberal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Nicholas was determined that his power would never again come into question </a:t>
            </a: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he was terrified of change!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Decembrist Uprising - 182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4" descr="Czar Nicholas I"/>
          <p:cNvPicPr/>
          <p:nvPr/>
        </p:nvPicPr>
        <p:blipFill>
          <a:blip r:embed="rId1"/>
          <a:srcRect l="3209" t="2003" r="0" b="9468"/>
          <a:stretch/>
        </p:blipFill>
        <p:spPr>
          <a:xfrm>
            <a:off x="838080" y="1066680"/>
            <a:ext cx="400392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7" name="Text Box 5"/>
          <p:cNvSpPr/>
          <p:nvPr/>
        </p:nvSpPr>
        <p:spPr>
          <a:xfrm>
            <a:off x="838080" y="630864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Nicholas 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257800" y="1295280"/>
            <a:ext cx="342900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thodoxy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tocracy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ism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200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ssification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2280" y="76320"/>
            <a:ext cx="8534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France: The “Restoration” Era 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1815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1143000"/>
            <a:ext cx="502920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France emerged from the chaos of its revolutionary period as the most liberal large state in Europe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ouis XVIII governed France as a Constitutional monarch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agreed to observe the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814 “Charter”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or Constitution of the Restoration perio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mited royal pow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nted legislative pow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tected civil right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596960" indent="-27936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SzPct val="13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pheld the Napoleon Code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410080" y="6019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uis XVIII  (r. 1814-1824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537160" y="1600200"/>
            <a:ext cx="322596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“Ultras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62520" y="914400"/>
            <a:ext cx="50292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France was divided by those who had accepted the ideals of the Fr. Revolution and those who didn’t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Count of Artois was the leader of the “Ultra-Royalists”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1815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ffff00"/>
                </a:solidFill>
                <a:latin typeface="Comic Sans MS"/>
              </a:rPr>
              <a:t>“White Terror”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yalist mobs killed 1000s of former revolutionar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1816 elections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Ultras were rejected in the Chamber of Deputies election in favor of a moderate royalist majority dependent on middle class suppor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5410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Count of Artoi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future King Charles X  (r. 1824-1830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5" descr="149583~Charles-of-France-1757-1836-Count-of-Artois-Future-Charles-X-King-of-France-Count of Artois"/>
          <p:cNvPicPr/>
          <p:nvPr/>
        </p:nvPicPr>
        <p:blipFill>
          <a:blip r:embed="rId1">
            <a:lum contrast="6000"/>
          </a:blip>
          <a:srcRect l="6078" t="4568" r="5705" b="8575"/>
          <a:stretch/>
        </p:blipFill>
        <p:spPr>
          <a:xfrm>
            <a:off x="457200" y="1295280"/>
            <a:ext cx="3024360" cy="396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France:  Conservative Backlash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143000"/>
            <a:ext cx="807696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20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Duke of Berri, son of Artois, was murder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yalists blamed the lef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uis XVIII moved the govt. more to the r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nges in electoral laws narrowed the eligible vot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nsorship was impos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berals were driven out of legal political life and into illegal activiti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00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23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riumph of reactionary forces!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 troops were authorized by the Concert of Europe to crush the Spanish Revolution and restore another Bourbon ruler, Ferdinand VII, to the throne ther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2280" y="152280"/>
            <a:ext cx="8991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King Charles X of France 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r. 1824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934920"/>
            <a:ext cx="84582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His Goal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essen the influence of the middle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la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imit the right to vote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ut the clergy back in charge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of educa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ublic money used to pay nobles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for the loss of their lands during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Fr Revolu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43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His Program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Attack the 1814 Chart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ontrol the pre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Dismiss the Chamber of Deputies when it turned against him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2793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Appointed an ultra-reactionary as his first minist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5749920" y="1143000"/>
            <a:ext cx="298440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Rectangle 8"/>
          <p:cNvSpPr/>
          <p:nvPr/>
        </p:nvSpPr>
        <p:spPr>
          <a:xfrm>
            <a:off x="4324320" y="717552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mited royal power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228600"/>
            <a:ext cx="8763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n Evaluation of the Congress of Vienn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3520" y="1066680"/>
            <a:ext cx="76960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Vienna was criticized for ignoring the liberal &amp; nationalist aspirations of so many peoples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leading statesmen at Vienna underestimated the new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ationalism and liberalism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generated by the French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Revolu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ot until the unification of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Germany in 1870-71 was th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balance of power upset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Not until World War I did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Europe have another general war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5" descr="German Revolutionaries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248520" y="2819520"/>
            <a:ext cx="2431800" cy="314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85800" y="1752480"/>
            <a:ext cx="777240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1830 Election brought in another liberal majority.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July Ordinance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e dissolved the entire parliament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rict censorship imposed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437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hanged the voting laws so that the government in the future could be assured of a conservative victory.</a:t>
            </a:r>
            <a:endParaRPr b="1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280" y="380880"/>
            <a:ext cx="8991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King Charles X of France  </a:t>
            </a:r>
            <a:r>
              <a:rPr b="1" lang="en-US" sz="3600" spc="-1" strike="noStrike">
                <a:solidFill>
                  <a:srgbClr val="ff0000"/>
                </a:solidFill>
                <a:latin typeface="Spirit Medium"/>
              </a:rPr>
              <a:t>(r. 1824-1830)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Spirit Medium"/>
              </a:rPr>
              <a:t>To the Barracades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Revolution, Again!!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Delacoix's  Libert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066680"/>
            <a:ext cx="6095880" cy="50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04920" y="62485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ers, students and some of the middle class call for a Republic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uis Philippe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The “Citizen King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2280" y="990720"/>
            <a:ext cx="594360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Duke of Orlean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lative of the Bourbons, bu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ad stayed clear of the </a:t>
            </a:r>
            <a:r>
              <a:rPr b="0" i="1" lang="en-US" sz="2200" spc="-1" strike="noStrike">
                <a:solidFill>
                  <a:srgbClr val="ffffff"/>
                </a:solidFill>
                <a:latin typeface="Comic Sans MS"/>
              </a:rPr>
              <a:t>Ultra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ead a thoroughly bourgeois lif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His Program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operty qualifications reduced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enough to double eligible vot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ess censorship abolishe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King ruled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by the will of the </a:t>
            </a:r>
            <a:br>
              <a:rPr sz="1900"/>
            </a:b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people, </a:t>
            </a: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 by the will of God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Fr Revolution’s tricolor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replaced the Bourbon flag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government was now under the control of the wealthy middle clas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638680" y="6308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r. 1830-1848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Louis-Philippe_de_Bourbon"/>
          <p:cNvPicPr/>
          <p:nvPr/>
        </p:nvPicPr>
        <p:blipFill>
          <a:blip r:embed="rId1">
            <a:lum contrast="6000"/>
          </a:blip>
          <a:srcRect l="0" t="0" r="1339" b="0"/>
          <a:stretch/>
        </p:blipFill>
        <p:spPr>
          <a:xfrm>
            <a:off x="5486400" y="1066680"/>
            <a:ext cx="3429000" cy="513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280" y="13644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uis Philippe </a:t>
            </a: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The “Citizen King”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962520" y="1066680"/>
            <a:ext cx="487656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is government ignored the needs and demands of the workers in the citie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y were seen as another nuisance and source of possible disorder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July, 1832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n uprising in Paris was put down by force and 800 were killed or wound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4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ilk workers strike in Ly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was crush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Seething underclas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Was seen as a violation of the status quo set down at the Congress of Vienna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6" descr="caricature  of Louis Phillipe"/>
          <p:cNvPicPr/>
          <p:nvPr/>
        </p:nvPicPr>
        <p:blipFill>
          <a:blip r:embed="rId1"/>
          <a:stretch/>
        </p:blipFill>
        <p:spPr>
          <a:xfrm>
            <a:off x="404640" y="1143000"/>
            <a:ext cx="3405240" cy="45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7" descr="Louis-Philippe_de_Bourbon"/>
          <p:cNvPicPr/>
          <p:nvPr/>
        </p:nvPicPr>
        <p:blipFill>
          <a:blip r:embed="rId2"/>
          <a:stretch/>
        </p:blipFill>
        <p:spPr>
          <a:xfrm>
            <a:off x="2971800" y="7848720"/>
            <a:ext cx="3552840" cy="513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Louis-Philippe_de_Bourbon"/>
          <p:cNvPicPr/>
          <p:nvPr/>
        </p:nvPicPr>
        <p:blipFill>
          <a:blip r:embed="rId3"/>
          <a:stretch/>
        </p:blipFill>
        <p:spPr>
          <a:xfrm>
            <a:off x="3124080" y="8001000"/>
            <a:ext cx="3552840" cy="5137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380880" y="57913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 caricature 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uis Philipp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Oval 6"/>
          <p:cNvSpPr/>
          <p:nvPr/>
        </p:nvSpPr>
        <p:spPr>
          <a:xfrm>
            <a:off x="4572000" y="38163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334120" y="32068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5800" y="1752480"/>
            <a:ext cx="77724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rthern Italy – Parma, Modena, and Papal States – experienced liberalism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talian nationalists – </a:t>
            </a:r>
            <a:r>
              <a:rPr b="0" lang="en-US" sz="2700" spc="-1" strike="noStrike">
                <a:solidFill>
                  <a:srgbClr val="ffff00"/>
                </a:solidFill>
                <a:latin typeface="Comic Sans MS"/>
              </a:rPr>
              <a:t>Mazzini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- called for unification (</a:t>
            </a:r>
            <a:r>
              <a:rPr b="0" i="1" lang="en-US" sz="2700" spc="-1" strike="noStrike">
                <a:solidFill>
                  <a:srgbClr val="ffffff"/>
                </a:solidFill>
                <a:latin typeface="Comic Sans MS"/>
              </a:rPr>
              <a:t>Young Italy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Carbonari – 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secret nationalist societie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687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ustrian troops under Metternich sent in to crush unorganized liberals</a:t>
            </a:r>
            <a:endParaRPr b="1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3808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iberalism in Italy (1831-32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Oval 5"/>
          <p:cNvSpPr/>
          <p:nvPr/>
        </p:nvSpPr>
        <p:spPr>
          <a:xfrm>
            <a:off x="4038480" y="24447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52280" y="152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Belgian Independence,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0880" y="1143000"/>
            <a:ext cx="8534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first to follow the lead of Franc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ts union with Holland after the Congress of Vienna had not proved successful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re had bee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very little popula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gitation for Belgia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ationalism before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0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seldom ha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ationalism arisen so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uddenly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ide cultural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ifferences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Nort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Dutc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Protestant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seafarers and trad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Sout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French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Catholic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farmers and individual workers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4" descr="map-creation of Belgium-1831-39"/>
          <p:cNvPicPr/>
          <p:nvPr/>
        </p:nvPicPr>
        <p:blipFill>
          <a:blip r:embed="rId1"/>
          <a:stretch/>
        </p:blipFill>
        <p:spPr>
          <a:xfrm>
            <a:off x="3962520" y="2209680"/>
            <a:ext cx="48765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2280" y="2286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Belgian Revolution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4" descr="Belgian Revolu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200240"/>
            <a:ext cx="7620120" cy="527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3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4" name="Oval 7"/>
          <p:cNvSpPr/>
          <p:nvPr/>
        </p:nvSpPr>
        <p:spPr>
          <a:xfrm>
            <a:off x="6248520" y="2597040"/>
            <a:ext cx="9903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“Concert” of Europe System Establishe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85800" y="1960560"/>
            <a:ext cx="807732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81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The principle of collective security was established.  Examples: 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Aix-la-Chapelle [1816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Troppau [1820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Laibach [1821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Congress of Verona [1822]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811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Their goal was to define and monitor the status quo.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2280" y="3348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7" descr="Polish Uprising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80880" y="1174680"/>
            <a:ext cx="845820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bloodiest struggle of the 1830 revolution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Poles in and around Warsaw gain a special status by the Congress of Vienna within the Russian Empir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ir own constitution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188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Local autonomy granted in 1818.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fter Tsar Alexander I dies, the Poles became restless under the tyrannical rule of Tsar Nicholas I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olish intellectuals were deeply influenced by Romanticism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umors reached Poland that Nicholas I was planning to use Polish troops to put down the revolutions in France and Belgium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veral Polish secret societies rebelled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2280" y="2286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A Stirring of Polish Nationalism -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219320"/>
            <a:ext cx="81532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Had the Poles been united, thi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volt might have been successful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ut, the revolutionarie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ere split into moderate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nd radical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Poles had hoped that Fr &amp;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ng would come to their aid,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but they didn’t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ven so, it took the Russian army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 year to suppress this rebellion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The irony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by drawing the Russian army to Warsaw for almost a year, the Poles may well have kept Nicholas I from answering Holland’s call for help in suppressing the Belgian Revolt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4" descr="Polish uprising against Russia - 1830-31 - b"/>
          <p:cNvPicPr/>
          <p:nvPr/>
        </p:nvPicPr>
        <p:blipFill>
          <a:blip r:embed="rId1"/>
          <a:stretch/>
        </p:blipFill>
        <p:spPr>
          <a:xfrm>
            <a:off x="5819760" y="1371600"/>
            <a:ext cx="269568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257800" y="3352680"/>
            <a:ext cx="3429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Independence Movement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in the Balka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3" descr="map-Nationalistic Movements in the Balkans, 1815-183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380880"/>
            <a:ext cx="3890880" cy="624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Line 5"/>
          <p:cNvSpPr/>
          <p:nvPr/>
        </p:nvSpPr>
        <p:spPr>
          <a:xfrm flipH="1">
            <a:off x="3505320" y="1676520"/>
            <a:ext cx="1218960" cy="75960"/>
          </a:xfrm>
          <a:prstGeom prst="line">
            <a:avLst/>
          </a:prstGeom>
          <a:ln w="38160">
            <a:solidFill>
              <a:srgbClr val="5dae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724280" y="1447920"/>
            <a:ext cx="3048120" cy="398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daeff"/>
                </a:solidFill>
                <a:latin typeface="Comic Sans MS"/>
              </a:rPr>
              <a:t>Wallachia &amp; Moldavi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2280" y="2286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Greek Revolution - 1821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3" descr="Greek Revolution of 1821"/>
          <p:cNvPicPr/>
          <p:nvPr/>
        </p:nvPicPr>
        <p:blipFill>
          <a:blip r:embed="rId1"/>
          <a:stretch/>
        </p:blipFill>
        <p:spPr>
          <a:xfrm>
            <a:off x="990720" y="1143000"/>
            <a:ext cx="7277040" cy="529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320"/>
            <a:ext cx="8534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Greek Independen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962520" y="914400"/>
            <a:ext cx="4952880" cy="59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“Eastern Question”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omic Sans MS"/>
              </a:rPr>
              <a:t>Hetairia Philike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a secr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ociety that inspired an uprising against the Turks in 1821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an-Hellenism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7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Battle of Navarino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r, Fr, Rus destroyed the Ottoman-Egyptian flee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8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Rus declared wa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on the Otts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29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Treaty of Adrianople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375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830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Greece declared an independent nation [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Treaty of Lond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]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" name="Picture 4" descr="Greece on the Ruins of Missolonght - Delacroix - 1827"/>
          <p:cNvPicPr/>
          <p:nvPr/>
        </p:nvPicPr>
        <p:blipFill>
          <a:blip r:embed="rId1"/>
          <a:stretch/>
        </p:blipFill>
        <p:spPr>
          <a:xfrm>
            <a:off x="425520" y="1050840"/>
            <a:ext cx="3232080" cy="480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Text Box 6"/>
          <p:cNvSpPr/>
          <p:nvPr/>
        </p:nvSpPr>
        <p:spPr>
          <a:xfrm>
            <a:off x="0" y="59277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Greece on the Ruins of Missilonghi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y Delacroix, 1827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52280" y="33480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Lord Byron – Martyr in Gree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4" descr="Thomas Phillips-Portrait of Lord Byron-181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38360" y="1409760"/>
            <a:ext cx="41673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52280" y="3049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The 1830 Revolu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4" descr="map-Revols of 1820s &amp; 1830s"/>
          <p:cNvPicPr/>
          <p:nvPr/>
        </p:nvPicPr>
        <p:blipFill>
          <a:blip r:embed="rId1"/>
          <a:stretch/>
        </p:blipFill>
        <p:spPr>
          <a:xfrm>
            <a:off x="2057400" y="1225440"/>
            <a:ext cx="518148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Oval 5"/>
          <p:cNvSpPr/>
          <p:nvPr/>
        </p:nvSpPr>
        <p:spPr>
          <a:xfrm>
            <a:off x="3657600" y="3130560"/>
            <a:ext cx="914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2280" y="13644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Europe in 1830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3" descr="map-Europe in 1830"/>
          <p:cNvPicPr/>
          <p:nvPr/>
        </p:nvPicPr>
        <p:blipFill>
          <a:blip r:embed="rId1"/>
          <a:stretch/>
        </p:blipFill>
        <p:spPr>
          <a:xfrm>
            <a:off x="1092240" y="1008000"/>
            <a:ext cx="71373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7632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Congress of Verona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Congress of Verona"/>
          <p:cNvPicPr/>
          <p:nvPr/>
        </p:nvPicPr>
        <p:blipFill>
          <a:blip r:embed="rId1"/>
          <a:stretch/>
        </p:blipFill>
        <p:spPr>
          <a:xfrm>
            <a:off x="704880" y="838080"/>
            <a:ext cx="7905600" cy="581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52280"/>
            <a:ext cx="8763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Conservati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914400"/>
            <a:ext cx="807732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sm arose in reaction to liberalism &amp; became a popular alternative for those who were frightened by the violence unleashed by the French Revolu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Early conservatism was allied to the restored monarchical governments of Austria, Prussia, France, and England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upport for conservatism: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ame from the traditional ruling clas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9376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lso supported by the peasants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upported by Romantic writers,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believed in order, society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and the state, faith, and tradition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10280" y="3809880"/>
            <a:ext cx="1489320" cy="197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152280"/>
            <a:ext cx="8763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Characteristics of Conservati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027080"/>
            <a:ext cx="8077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viewed history as a continuum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Stability &amp; longevity, not progress and change, mark a good society. 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basis of society is organic, not contractual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only legitimate sources of political authority were God and history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31840">
              <a:lnSpc>
                <a:spcPct val="100000"/>
              </a:lnSpc>
              <a:spcBef>
                <a:spcPts val="131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y rejected the “social contract” theory.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Conservatives believed that self-interests do not lead to social harmony, but to social conflict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6240" indent="-231840">
              <a:lnSpc>
                <a:spcPct val="100000"/>
              </a:lnSpc>
              <a:spcBef>
                <a:spcPts val="1562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nounced individualism and natural rights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1562"/>
              </a:spcBef>
              <a:buClr>
                <a:srgbClr val="ff0000"/>
              </a:buClr>
              <a:buSzPct val="120000"/>
              <a:buFont typeface="Map Symbol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o conservatives, society was hierarchical.</a:t>
            </a:r>
            <a:endParaRPr b="1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pirit Medium"/>
              </a:rPr>
              <a:t>Conservatism in Austria and P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Austria was extremely conservative as reaction to multiethn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Metternich was leader of conserva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Initially Prussia had a reputation for liberalism, although gov’t reforms intended efficiency not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Carlsbad Diet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(1819) – called by Metter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Carlsbad Decrees</a:t>
            </a: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 – crackdown on liberalism in universities; forced liberalism and nationalism under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pirit Medium"/>
              </a:rPr>
              <a:t>Conservatism in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Conservative </a:t>
            </a:r>
            <a:r>
              <a:rPr b="0" lang="en-US" sz="3200" spc="-1" strike="noStrike">
                <a:solidFill>
                  <a:srgbClr val="99cc00"/>
                </a:solidFill>
                <a:latin typeface="Spirit Medium"/>
              </a:rPr>
              <a:t>Tories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control gov’t after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pirit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pirit Medium"/>
              </a:rPr>
              <a:t>Corn Laws of 1816</a:t>
            </a:r>
            <a:r>
              <a:rPr b="0" lang="en-US" sz="3200" spc="-1" strike="noStrike">
                <a:solidFill>
                  <a:srgbClr val="ffffff"/>
                </a:solidFill>
                <a:latin typeface="Spirit Medium"/>
              </a:rPr>
              <a:t> halted importation of foreign grains in order to benefit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Spirit Medium"/>
              </a:rPr>
              <a:t>Peterloo Massacre”</a:t>
            </a: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 of 1819 – pro-liberal crowd protesting Corn Law attacked by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Liberal press was censored; mass meetings outla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pirit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irit Medium"/>
              </a:rPr>
              <a:t>Habeas corpus repealed for first time in English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280" y="76320"/>
            <a:ext cx="8610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19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pirit Medium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Spirit Medium"/>
              </a:rPr>
              <a:t> Latin American Independence Moveme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3" descr="map-Latin American Independence, 1804-1830"/>
          <p:cNvPicPr/>
          <p:nvPr/>
        </p:nvPicPr>
        <p:blipFill>
          <a:blip r:embed="rId1"/>
          <a:stretch/>
        </p:blipFill>
        <p:spPr>
          <a:xfrm>
            <a:off x="1371600" y="838080"/>
            <a:ext cx="461016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48:39Z</dcterms:created>
  <dc:creator>Ms. Susan M. Pojer</dc:creator>
  <dc:description/>
  <dc:language>en-US</dc:language>
  <cp:lastModifiedBy>Owner</cp:lastModifiedBy>
  <dcterms:modified xsi:type="dcterms:W3CDTF">2011-02-15T05:22:24Z</dcterms:modified>
  <cp:revision>76</cp:revision>
  <dc:subject/>
  <dc:title>Revolutions of the 1820s to 1830</dc:title>
</cp:coreProperties>
</file>